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3AC-305E-477E-8F82-23035828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6D4-FA60-4D00-A03B-65B2598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6B4-D171-4BAB-BA01-FC2147E6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008-3FD3-40A4-B67E-5F5E3AEB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829-0A5E-4671-863A-74CE3744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D07-61C3-4DAA-840B-EA6BECF3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0C7-9F52-4BFC-9E8B-22F4789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FC6-059C-4476-A8D9-B58C860C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DD0-DFE0-4630-83F4-C6A47F2B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527-74A4-4AD2-8B0B-5CDFF27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531-DC28-4F2A-8324-2E0CEBE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882-2708-4516-A851-71FA32D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7448-7530-401B-BA9D-F86F5892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5-08-24T16:22:30Z</dcterms:modified>
  <cp:revision>8</cp:revision>
  <dc:subject/>
  <dc:title>PowerPoint Presentation</dc:title>
</cp:coreProperties>
</file>