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A9A-898D-48FB-9615-1681111F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4BA-0D9A-48DC-8182-9A6A0733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73B-269E-4A76-B754-68830818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A2C-E0C1-412D-92C2-A17842C3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136-371B-4E5F-856D-1CD66D67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B59-C2B3-4EE3-8808-BECAAD16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FC7-1DDC-4CB9-84E0-3AFDF8B0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671-0BB4-404E-B55F-46A69ADB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AA0-B9D6-4BC9-917F-0C46D47C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5D6-A85D-4373-BF59-C8E2BB0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4E8-2FF8-4CE6-AE91-9D80FB6C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88D-8860-429F-B5D5-51D3F858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8656-9AE4-4813-8E80-91237BDA5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Disch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Discharge9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Discharge10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AdultDischarge11.jpg"/>
          <p:cNvPicPr/>
          <p:nvPr/>
        </p:nvPicPr>
        <p:blipFill>
          <a:blip r:embed="rId1"/>
          <a:stretch/>
        </p:blipFill>
        <p:spPr>
          <a:xfrm>
            <a:off x="766800" y="819000"/>
            <a:ext cx="76104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AdultDischarge12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AdultDischarge1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Discharge1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Discharge2.jpg"/>
          <p:cNvPicPr/>
          <p:nvPr/>
        </p:nvPicPr>
        <p:blipFill>
          <a:blip r:embed="rId1"/>
          <a:stretch/>
        </p:blipFill>
        <p:spPr>
          <a:xfrm>
            <a:off x="771480" y="838080"/>
            <a:ext cx="7601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dultDischarge3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Discharge4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Discharge5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Discharge6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Discharge7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Discharge8.jpg"/>
          <p:cNvPicPr/>
          <p:nvPr/>
        </p:nvPicPr>
        <p:blipFill>
          <a:blip r:embed="rId1"/>
          <a:stretch/>
        </p:blipFill>
        <p:spPr>
          <a:xfrm>
            <a:off x="757080" y="833400"/>
            <a:ext cx="76298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8:43:52Z</dcterms:created>
  <dc:creator>zcui</dc:creator>
  <dc:description/>
  <dc:language>en-US</dc:language>
  <cp:lastModifiedBy>rbalne</cp:lastModifiedBy>
  <dcterms:modified xsi:type="dcterms:W3CDTF">2009-08-12T13:56:45Z</dcterms:modified>
  <cp:revision>1</cp:revision>
  <dc:subject/>
  <dc:title>TRAC</dc:title>
</cp:coreProperties>
</file>