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EBD-88D7-43D1-8446-070C3C41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665-4A16-4C5D-8405-8EFCD581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AC8-5D50-45F9-9848-8F39103D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166-2AB1-4DCA-98F8-5B5E595E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6AD-D482-4BCB-97FD-12AE0602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9B8-B4E7-4BB1-9B4C-0007F7AF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DC6-1C4F-4E62-8AD9-BD1CD73C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445-259F-4729-BD0E-52D4EE2F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7C2-5B2E-4574-9DDE-367A20D6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741-1877-49A6-887F-60C7709C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16C-4BF9-4D1E-A5CF-A1C058B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A66-CBCA-4AF4-825A-256509A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6B82-F951-4977-963A-CAB962154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Baseline9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Baseline1.jpg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Baseline2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hildBaseline4.jpg"/>
          <p:cNvPicPr/>
          <p:nvPr/>
        </p:nvPicPr>
        <p:blipFill>
          <a:blip r:embed="rId2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Baseline5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Baseline6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Baseline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8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29:17Z</dcterms:created>
  <dc:creator>zcui</dc:creator>
  <dc:description/>
  <dc:language>en-US</dc:language>
  <cp:lastModifiedBy>rbalne</cp:lastModifiedBy>
  <dcterms:modified xsi:type="dcterms:W3CDTF">2009-08-12T13:57:11Z</dcterms:modified>
  <cp:revision>2</cp:revision>
  <dc:subject/>
  <dc:title>Slide 1</dc:title>
</cp:coreProperties>
</file>