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149-1A55-43D9-9F85-D725E816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5FE-C332-4AFA-95F9-B560DA60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E13-81D1-4C01-A752-47A11C62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79B-7C82-4C9D-BC01-EB91485B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D1B-695F-4B0B-9E74-D790732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9CE-9FB7-46C1-9ED3-7B4736ED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2E0-C677-408A-8EC6-F799D405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66C-DC48-4A19-9B64-0842F65A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577-61EC-4C35-9B23-EB1B04B6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F10-7CFA-40B0-9056-25DFE87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DC4-F343-4E49-8F60-CB86DDA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D47-7C46-4DEB-ABF9-27671DC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0645-0279-427A-A661-F718BFF98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hildDischarge9.jpg"/>
          <p:cNvPicPr/>
          <p:nvPr/>
        </p:nvPicPr>
        <p:blipFill>
          <a:blip r:embed="rId2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Discharge10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Discharge11.jpg"/>
          <p:cNvPicPr/>
          <p:nvPr/>
        </p:nvPicPr>
        <p:blipFill>
          <a:blip r:embed="rId1"/>
          <a:stretch/>
        </p:blipFill>
        <p:spPr>
          <a:xfrm>
            <a:off x="776160" y="847800"/>
            <a:ext cx="759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Discharge12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ild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Discharge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Discharge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Discharge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Discharge4.jpg"/>
          <p:cNvPicPr/>
          <p:nvPr/>
        </p:nvPicPr>
        <p:blipFill>
          <a:blip r:embed="rId1"/>
          <a:stretch/>
        </p:blipFill>
        <p:spPr>
          <a:xfrm>
            <a:off x="776160" y="828720"/>
            <a:ext cx="7591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Discharge5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Discharge6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Discharge7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Discharge8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7:33Z</dcterms:created>
  <dc:creator>zcui</dc:creator>
  <dc:description/>
  <dc:language>en-US</dc:language>
  <cp:lastModifiedBy>rbalne</cp:lastModifiedBy>
  <dcterms:modified xsi:type="dcterms:W3CDTF">2009-08-12T13:57:22Z</dcterms:modified>
  <cp:revision>2</cp:revision>
  <dc:subject/>
  <dc:title>TRAC</dc:title>
</cp:coreProperties>
</file>