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1BC-29CA-43E4-80AE-431D3F3D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777-EE03-42CB-8317-14720BD6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377-D83C-431B-B93F-51AD82E4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CD6-CC94-4588-A17D-35F53B4F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E11-EA04-4F0C-BFEE-298872E0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B2F-EC97-4B2A-86C9-A9CF17A2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32B-65E0-47D8-AFAD-82D86C72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EFB-DB35-41B4-B4A6-55868282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E4B-30D1-42A6-B9C3-F9FED5D2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208-4D23-43AD-9F63-65B5F644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4F4-144F-49BC-B175-3FF36530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F36-E986-4550-BED5-6A84FFFA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ECB9-06B9-47C6-AD73-2BEC5A0DB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Reassessment9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Reassessment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Reassessment11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Reassessment12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Reassessment1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Reassessment2.jpg"/>
          <p:cNvPicPr/>
          <p:nvPr/>
        </p:nvPicPr>
        <p:blipFill>
          <a:blip r:embed="rId1"/>
          <a:stretch/>
        </p:blipFill>
        <p:spPr>
          <a:xfrm>
            <a:off x="752400" y="819000"/>
            <a:ext cx="76392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Reassessment3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Reassessment4.jpg"/>
          <p:cNvPicPr/>
          <p:nvPr/>
        </p:nvPicPr>
        <p:blipFill>
          <a:blip r:embed="rId1"/>
          <a:stretch/>
        </p:blipFill>
        <p:spPr>
          <a:xfrm>
            <a:off x="762120" y="833400"/>
            <a:ext cx="76197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Reassessment5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Reassessment6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Reassessment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Reassessment8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39:19Z</dcterms:created>
  <dc:creator>zcui</dc:creator>
  <dc:description/>
  <dc:language>en-US</dc:language>
  <cp:lastModifiedBy>rbalne</cp:lastModifiedBy>
  <dcterms:modified xsi:type="dcterms:W3CDTF">2009-08-12T14:04:27Z</dcterms:modified>
  <cp:revision>2</cp:revision>
  <dc:subject/>
  <dc:title>TRAC</dc:title>
</cp:coreProperties>
</file>