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B272-D956-4A3A-AB01-EAB7007DA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B655-0D89-4442-BD05-53A70199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7253-1AAD-4D7D-8CB7-3937B637A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FD5E-70E7-429E-A48B-E8989D2B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4E3D-F7BF-42FE-BE6E-15EFAE4E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62EB-840E-4603-9396-AE3EAF60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8037-A27C-40ED-A652-7AA1EF4E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197E-1933-46ED-8EED-8960356D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43C4-1332-4BF8-B7F7-C4FDFA5B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3EE8-6D1E-471B-827F-7D468890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D289-E980-463F-B02B-FECE4758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B33D-9466-47AB-8B57-423D6A3A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85C4-6EB3-4851-A220-1A4A655ED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348160" y="91440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5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0948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69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34816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79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2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6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52280" y="762120"/>
            <a:ext cx="4352760" cy="2666520"/>
            <a:chOff x="152280" y="762120"/>
            <a:chExt cx="4352760" cy="2666520"/>
          </a:xfrm>
        </p:grpSpPr>
        <p:sp>
          <p:nvSpPr>
            <p:cNvPr id="90" name=""/>
            <p:cNvSpPr/>
            <p:nvPr/>
          </p:nvSpPr>
          <p:spPr>
            <a:xfrm>
              <a:off x="152280" y="7621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68400" y="29718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54816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6236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4" name=""/>
          <p:cNvGraphicFramePr/>
          <p:nvPr/>
        </p:nvGraphicFramePr>
        <p:xfrm>
          <a:off x="152280" y="16002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5" name=""/>
          <p:cNvGrpSpPr/>
          <p:nvPr/>
        </p:nvGrpSpPr>
        <p:grpSpPr>
          <a:xfrm>
            <a:off x="4648320" y="762120"/>
            <a:ext cx="4352400" cy="2666520"/>
            <a:chOff x="4648320" y="762120"/>
            <a:chExt cx="4352400" cy="2666520"/>
          </a:xfrm>
        </p:grpSpPr>
        <p:sp>
          <p:nvSpPr>
            <p:cNvPr id="96" name=""/>
            <p:cNvSpPr/>
            <p:nvPr/>
          </p:nvSpPr>
          <p:spPr>
            <a:xfrm>
              <a:off x="4648320" y="7621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64080" y="29718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04384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65840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152280" y="3505320"/>
            <a:ext cx="4352760" cy="2666520"/>
            <a:chOff x="152280" y="3505320"/>
            <a:chExt cx="4352760" cy="2666520"/>
          </a:xfrm>
        </p:grpSpPr>
        <p:sp>
          <p:nvSpPr>
            <p:cNvPr id="101" name=""/>
            <p:cNvSpPr/>
            <p:nvPr/>
          </p:nvSpPr>
          <p:spPr>
            <a:xfrm>
              <a:off x="152280" y="35053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68400" y="57150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354816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16236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4648320" y="3505320"/>
            <a:ext cx="4352400" cy="2666520"/>
            <a:chOff x="4648320" y="3505320"/>
            <a:chExt cx="4352400" cy="2666520"/>
          </a:xfrm>
        </p:grpSpPr>
        <p:sp>
          <p:nvSpPr>
            <p:cNvPr id="106" name=""/>
            <p:cNvSpPr/>
            <p:nvPr/>
          </p:nvSpPr>
          <p:spPr>
            <a:xfrm>
              <a:off x="4648320" y="35053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64080" y="57150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804384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465840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0" name=""/>
          <p:cNvGraphicFramePr/>
          <p:nvPr/>
        </p:nvGraphicFramePr>
        <p:xfrm>
          <a:off x="4648320" y="16002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52280" y="43434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648320" y="43434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McKamey</cp:lastModifiedBy>
  <dcterms:modified xsi:type="dcterms:W3CDTF">2008-08-21T01:19:33Z</dcterms:modified>
  <cp:revision>16</cp:revision>
  <dc:subject/>
  <dc:title>PowerPoint Presentation</dc:title>
</cp:coreProperties>
</file>